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FBB-ECBA-4E30-9D94-F9D79609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1AA-CF13-411D-BA32-561DE52D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2A8-6D12-42CA-90F6-CD90F186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4AC-2B29-411E-A8F7-781025DA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6029A-021D-4D0F-A932-286BAA27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85972-1293-4E53-A943-8AF299C6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19E81-36A2-44F4-8CE5-9D4668EF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031F2-B3B0-4BC5-A425-26BC73E6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206A6-F82B-4169-AC2E-A6254398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AFF10-FE1E-40FD-BAB9-6CA2B2C4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AE9C6-2E06-4140-8273-7FF466EE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1BE-BF03-42EB-965B-84E94BDE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81E95-F18D-4DF7-8CB2-4BC0E20C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F4CCD-3632-46D9-ABAC-4360A8DB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F3D6B-C477-4AC4-9F45-D25EF8B4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863F0-4AB4-4E7F-A141-6887F0F8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622BA-2124-49DF-8C75-F4F0E659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EDD-3362-41A0-9682-927B846E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A51-C63D-4E3E-B21B-67018CD7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07E-6587-4C02-9A06-D74910BB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46A-4FBA-4E7D-85AF-E9D13216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DFE-DA26-49FA-9B31-E00F1D85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44E-DC43-41EA-BBC8-19E4629F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990-C993-4DCB-9EC5-F3279400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B987-862D-4D07-B33E-D35B0044E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DC83-869F-4DEF-919C-1455B23958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836280"/>
            <a:ext cx="64008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Учебный проек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Многогранн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bfb6e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Дидактические цели проек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ормирование понятия у учеников правильного многогранника и его исторические сведения, значимость многогранников в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обретение навыков школьников сравнения фактов, самостоятельных оценок событий, объяснения явлений, интерпретирования сведений, а так же научиться связывать изучение темы с другими дисциплинами и тем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обретение навыков самостоятельной работы, работы в групп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cc"/>
                </a:solidFill>
                <a:uFillTx/>
                <a:latin typeface="Arial"/>
              </a:rPr>
              <a:t>Основополагающий вопрос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ногогранники, можно ли без них?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bfb6e"/>
                </a:solidFill>
                <a:latin typeface="Arial"/>
              </a:rPr>
              <a:t>Проблемные вопрос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1.Полуправильные многогранник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2.Что известно из истории многогранников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3.Каким образом форма многогранника нашла приложение в архитектуре, живописи и природ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f11a4"/>
                </a:solidFill>
                <a:latin typeface="Arial"/>
              </a:rPr>
              <a:t>Учебные вопросы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fb6e"/>
                </a:solidFill>
                <a:latin typeface="Arial"/>
              </a:rPr>
              <a:t>1. Как научиться определять вид и свойства данных многогранников в зависимости от вида многоугольников, из которых он состои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fb6e"/>
                </a:solidFill>
                <a:latin typeface="Arial"/>
              </a:rPr>
              <a:t>2. Каким образом история повлияла на развитие понятий призмы и пирамиды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bfb6e"/>
                </a:solidFill>
                <a:latin typeface="Arial"/>
              </a:rPr>
              <a:t>3. Где используются многогранники? Можно ли встретить в природе, быт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11a4"/>
                </a:solidFill>
                <a:latin typeface="Arial"/>
              </a:rPr>
              <a:t>Разбиение класса на групп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группа</a:t>
            </a:r>
            <a:r>
              <a:rPr b="1" lang="ru-RU" sz="3200" spc="-1" strike="noStrike">
                <a:solidFill>
                  <a:srgbClr val="5bfb6e"/>
                </a:solidFill>
                <a:latin typeface="Arial"/>
              </a:rPr>
              <a:t> – психологический подход в изучении многогран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II</a:t>
            </a: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 группа</a:t>
            </a:r>
            <a:r>
              <a:rPr b="1" lang="ru-RU" sz="3200" spc="-1" strike="noStrike">
                <a:solidFill>
                  <a:srgbClr val="5bfb6e"/>
                </a:solidFill>
                <a:latin typeface="Arial"/>
              </a:rPr>
              <a:t> – исторический подход в изучении многогран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III</a:t>
            </a: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 группа</a:t>
            </a:r>
            <a:r>
              <a:rPr b="1" lang="ru-RU" sz="3200" spc="-1" strike="noStrike">
                <a:solidFill>
                  <a:srgbClr val="5bfb6e"/>
                </a:solidFill>
                <a:latin typeface="Arial"/>
              </a:rPr>
              <a:t> – каким образом форма многогранника нашла положение в архитектуре, живописи и пр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Будет создавать буклет на тему</a:t>
            </a: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“</a:t>
            </a:r>
            <a:r>
              <a:rPr b="1" i="1" lang="ru-RU" sz="3600" spc="-1" strike="noStrike">
                <a:solidFill>
                  <a:srgbClr val="5bfb6e"/>
                </a:solidFill>
                <a:latin typeface="Arial"/>
              </a:rPr>
              <a:t>Полуправильные м</a:t>
            </a:r>
            <a:r>
              <a:rPr b="1" i="1" lang="en-US" sz="3600" spc="-1" strike="noStrike">
                <a:solidFill>
                  <a:srgbClr val="5bfb6e"/>
                </a:solidFill>
                <a:latin typeface="Arial"/>
              </a:rPr>
              <a:t>ногогранники, можно ли без них?</a:t>
            </a:r>
            <a:r>
              <a:rPr b="1" i="1" lang="ru-RU" sz="3600" spc="-1" strike="noStrike">
                <a:solidFill>
                  <a:srgbClr val="5bfb6e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1 групп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2 групп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Будет заниматься созданием презентации, в котором и разместит историческую справку возникновения многогранников. Будет исследовать загадки древ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3 групп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Будет проведено анкетирование на тему</a:t>
            </a: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5bfb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5bfb6e"/>
                </a:solidFill>
                <a:latin typeface="Arial"/>
              </a:rPr>
              <a:t>Каким образом форма многогранника нашла приложение в архитектуре, живописи и природе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9:02:34Z</dcterms:created>
  <dc:creator>Ленка</dc:creator>
  <dc:description/>
  <dc:language>en-US</dc:language>
  <cp:lastModifiedBy>Ленка</cp:lastModifiedBy>
  <dcterms:modified xsi:type="dcterms:W3CDTF">2010-06-04T09:26:23Z</dcterms:modified>
  <cp:revision>2</cp:revision>
  <dc:subject/>
  <dc:title>Слайд 1</dc:title>
</cp:coreProperties>
</file>